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60647"/>
        <c:axId val="95885545"/>
      </c:barChart>
      <c:catAx>
        <c:axId val="88860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85545"/>
        <c:crosses val="autoZero"/>
        <c:auto val="1"/>
        <c:lblAlgn val="ctr"/>
        <c:lblOffset val="100"/>
        <c:noMultiLvlLbl val="0"/>
      </c:catAx>
      <c:valAx>
        <c:axId val="95885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60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E0A-48C3-4587-90ED-EB18BF29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D44-15EF-4168-8712-CDBB18B6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31E-A493-46FB-A15E-86FC6175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360-3A41-4FB2-BD32-3EEC3583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C09-E28F-4EEF-9A83-C47FF28B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749-4B73-4DE6-B131-05ED7A2B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F30-6ACB-4E2E-874D-4CCE577D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667-6B61-45C6-96A0-ED689132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E4F-E1E4-4550-BDE6-A739DF89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FCD-7073-4E39-974F-872936E3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30F-EC9D-4F3D-B5C9-99F47824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201-B315-4747-930C-CB20A2D8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196CC-F5BE-4CD2-BEC5-E65F5A1754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