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33805"/>
        <c:axId val="82023053"/>
      </c:barChart>
      <c:catAx>
        <c:axId val="49333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3053"/>
        <c:crosses val="autoZero"/>
        <c:auto val="1"/>
        <c:lblAlgn val="ctr"/>
        <c:lblOffset val="100"/>
        <c:noMultiLvlLbl val="0"/>
      </c:catAx>
      <c:valAx>
        <c:axId val="82023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33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409-DAF9-4C76-9237-64E5316E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AF8-3531-4CE8-9071-51E86EF4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CCC-7EBA-4108-9D9C-97F89D5F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1C0-F215-424D-BBBB-6F094E84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4D7-2438-4A11-B3D6-EE9771A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205-69C3-4DAA-816F-769172BC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C9E-5E9A-4341-941B-5C21E25A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3C9-9C7D-4361-AF68-F7B9A339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E28-67A2-4D55-A0F5-48AFE9F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F80-D97B-413D-98DE-280FA16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E34-AC5A-4A65-88A4-0199252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483-4CCC-418F-84B2-6635B77C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02B91-C8F0-41ED-938F-F99D24830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