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19730"/>
        <c:axId val="75986947"/>
      </c:barChart>
      <c:catAx>
        <c:axId val="34519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86947"/>
        <c:crosses val="autoZero"/>
        <c:auto val="1"/>
        <c:lblAlgn val="ctr"/>
        <c:lblOffset val="100"/>
        <c:noMultiLvlLbl val="0"/>
      </c:catAx>
      <c:valAx>
        <c:axId val="75986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19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63E-69F3-40F5-94A6-E25A0F55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394-0A9B-4E70-8831-FE8A9235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65A-8D17-4D16-BB4F-4D8B4088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9A7-D155-4FB9-BD4B-C86F79DC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A4F-C341-4C14-A918-DF02E5FA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818-4B50-4B5D-B877-5BAE80BA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C87-C557-4B1E-8442-613BEA06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0BB-72C9-4199-A079-91E59D33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A29C-F517-461A-A974-51E6A756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DAA-AC13-4692-9B49-D4FF2C9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17B-1487-47A9-A7CB-B25AC6DB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005-72FA-40D3-9670-8DED4E0B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A77B9-68DC-4655-B632-DEEDB84C17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