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30824"/>
        <c:axId val="75141361"/>
      </c:barChart>
      <c:catAx>
        <c:axId val="22330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41361"/>
        <c:crosses val="autoZero"/>
        <c:auto val="1"/>
        <c:lblAlgn val="ctr"/>
        <c:lblOffset val="100"/>
        <c:noMultiLvlLbl val="0"/>
      </c:catAx>
      <c:valAx>
        <c:axId val="75141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30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D60E-53A7-4ACD-8E44-688F376E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F455-4B5D-4C06-B345-ECF63D53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0E6B-639D-401A-AB1F-41712361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D8E-73D4-4077-B75C-325FADB2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237B-A253-444E-8AE0-BC9BDAFC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7972-2EC8-4B6A-B235-27074F37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2C98-FED6-44C3-9615-3D22D402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D6D-E210-4EF5-B917-D8B96C28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A08B-5FF0-4848-A6EB-E8AD4652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CFB-9072-4C9A-8088-C1EF9DC4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E2DE-1F27-4E1B-880D-ACD7A0B7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435-35E5-4AA6-9B37-3B1F3F77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36649-D84D-4EB4-957A-EB5F02DB9C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