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49288"/>
        <c:axId val="56871418"/>
      </c:barChart>
      <c:catAx>
        <c:axId val="48449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71418"/>
        <c:crosses val="autoZero"/>
        <c:auto val="1"/>
        <c:lblAlgn val="ctr"/>
        <c:lblOffset val="100"/>
        <c:noMultiLvlLbl val="0"/>
      </c:catAx>
      <c:valAx>
        <c:axId val="56871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49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202-FB7E-4975-8F36-922445D1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FCE-79A9-4C2A-81D6-6031402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5D9-837F-406A-A1A9-9DB77582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002-BEFF-493B-89A2-C092C1AD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7A4-7A96-4526-AE2D-9BE7DC35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16A-F3F4-4C0F-9611-B759D4D1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8FB-3CC9-4BD2-A09E-9B648830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447-6412-4D3F-B934-D30199AB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514-FF31-46F6-B0E3-7786D720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B52-7A6E-42AF-9CBD-58241AE8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25C-A874-4D2A-B5DA-D86A3627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912-15FF-4A90-8E66-C91AA51D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1B03E-D9AB-4CE5-9EA9-BC2DC5C967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