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42093"/>
        <c:axId val="33962900"/>
      </c:barChart>
      <c:catAx>
        <c:axId val="19442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62900"/>
        <c:crosses val="autoZero"/>
        <c:auto val="1"/>
        <c:lblAlgn val="ctr"/>
        <c:lblOffset val="100"/>
        <c:noMultiLvlLbl val="0"/>
      </c:catAx>
      <c:valAx>
        <c:axId val="33962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42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519-2766-4867-8AFA-BB366940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50C-4D98-4B45-8CFA-75948D3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9EC-DB3C-44AF-AA41-44D646A6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22E-DB09-42B0-BD07-6C841B79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0F0-2590-4DD7-9C89-1DD7B8FA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5CC-39FF-4A73-A754-8CAFE623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2C0-1352-4996-9167-E66A46BD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264-8534-4ECB-B012-86F97274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6D6-9A28-4F24-97E8-84AFDD7E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424-FB45-48F9-AA39-15EF3817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288-FB2E-4BA2-B2E1-F11CBF5B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FFC-5689-4EB3-B1BD-0CB5C88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C9E50-72B8-4D0A-BBFE-6207F40685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