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55978"/>
        <c:axId val="89583483"/>
      </c:barChart>
      <c:catAx>
        <c:axId val="8465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83483"/>
        <c:crosses val="autoZero"/>
        <c:auto val="1"/>
        <c:lblAlgn val="ctr"/>
        <c:lblOffset val="100"/>
        <c:noMultiLvlLbl val="0"/>
      </c:catAx>
      <c:valAx>
        <c:axId val="89583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DC-1656-45F0-AB32-008D0DFD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D85-FE01-4907-B746-6C2C741A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EE0-4445-445C-93EB-5F4CEDDD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64B-A1A0-4EB4-BA34-AF07928F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75A-7636-4558-A8EC-3F4ACAE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CED-AFC9-4D24-A3D0-739BAF1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B3C-8AD5-423E-9DE8-43DCE9E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FE0-DB5E-4CDE-96C2-753805D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307-1139-4541-A4CD-2F23C2D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AB-B273-44F5-AEA8-17AFD9D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CB6-1ECA-4AFC-A646-4498FA8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A2E-A79F-4CAE-B820-39249F8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5D4EE-9E8B-4B65-893D-C7591883D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