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62993"/>
        <c:axId val="77437056"/>
      </c:barChart>
      <c:catAx>
        <c:axId val="26862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7056"/>
        <c:crosses val="autoZero"/>
        <c:auto val="1"/>
        <c:lblAlgn val="ctr"/>
        <c:lblOffset val="100"/>
        <c:noMultiLvlLbl val="0"/>
      </c:catAx>
      <c:valAx>
        <c:axId val="77437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2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37F-1EDB-4C72-9112-10E865F3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7C0-43CF-428F-AD26-D54C925F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8B-9172-4B1E-9095-8F707EF8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A2E-A6CC-4613-9A9B-DB7E632D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EA5-9C13-46C2-9BAC-D90BA07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6B5-3BC2-4A3B-8103-E24E1773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B57-10B4-49F6-8DCB-648787FB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AA3-508D-427A-869A-770274C3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F45-BD92-4260-863D-9D3B8014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B8E-FC7C-4777-94E1-A64CA167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69E-BC7F-4621-B88C-806053A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4CD-C0E8-4BA1-BD22-0741947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AB0B-8049-405A-8640-6A0A749BD1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