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76626"/>
        <c:axId val="15907936"/>
      </c:barChart>
      <c:catAx>
        <c:axId val="65076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07936"/>
        <c:crosses val="autoZero"/>
        <c:auto val="1"/>
        <c:lblAlgn val="ctr"/>
        <c:lblOffset val="100"/>
        <c:noMultiLvlLbl val="0"/>
      </c:catAx>
      <c:valAx>
        <c:axId val="15907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6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732-068D-433A-8FC4-B74D7451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C22-94A3-426B-B923-19E0DF55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3DF3-92B2-429C-A10A-511AECE1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08D-8A36-479A-8563-2F6AA447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8D9-5C6F-40D0-BD5C-BC54E8BD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10D-362C-4AE9-8F33-F1C64A25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474-FECE-4415-97D2-42F12170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D4B-876B-4645-A4D5-99C202C5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60C-3113-4654-BAE3-821481E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A58-86ED-4892-9A18-69573E7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4E4-CAF7-435B-9D8E-E820A67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1B2-54E6-45CE-8539-4A1AB0A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D6C4A-3802-4F27-A966-8A9DF53632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