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52316"/>
        <c:axId val="42976739"/>
      </c:barChart>
      <c:catAx>
        <c:axId val="14752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76739"/>
        <c:crosses val="autoZero"/>
        <c:auto val="1"/>
        <c:lblAlgn val="ctr"/>
        <c:lblOffset val="100"/>
        <c:noMultiLvlLbl val="0"/>
      </c:catAx>
      <c:valAx>
        <c:axId val="42976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52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7F3-E3EA-40BE-821A-E704A4FF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F74-F039-4CD8-820B-153C9661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F85-C024-43D8-899F-581C88EA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265-F116-41E1-A341-BE00791A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CC9-95E8-48E4-A4E1-8D09859C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E9B-BD43-40CA-B3EC-7156C869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33F-798C-44D6-A985-52D9A0C9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9F2-08D3-468D-80B5-F74B120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88B-F103-4F33-9775-3A26F47A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693-722B-4B47-A6EF-8317AEDF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90F-2780-4995-A429-5F822768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0E9-EF7C-45AA-90C3-D5408F63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40D2F-8BB9-425F-8812-42421770F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