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4906"/>
        <c:axId val="8167223"/>
      </c:barChart>
      <c:catAx>
        <c:axId val="2804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7223"/>
        <c:crosses val="autoZero"/>
        <c:auto val="1"/>
        <c:lblAlgn val="ctr"/>
        <c:lblOffset val="100"/>
        <c:noMultiLvlLbl val="0"/>
      </c:catAx>
      <c:valAx>
        <c:axId val="8167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4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0F4-46C7-4AD2-9659-FB244B03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EA1-0F2C-4159-B2E1-754EC42E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66D-3394-4922-BFC5-B24E7EF6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892-0BE9-4E14-AC3E-494E0418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3FD-B377-420A-B662-D63464C1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77A-D980-4671-88AD-E11F8A47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12C-753F-4266-9DBB-2880A5AD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AA4-104E-487D-8159-A296A991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EA6-12F5-4BD1-BF2D-E1F4121C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9A2-D369-4B3F-BEDD-1C0ECCE1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B24-32D9-4637-8C8B-69DA383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65E-5F91-4DCB-9B12-1F4353B2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645E0-F484-4F83-A4A7-B48B5109AD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