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59842"/>
        <c:axId val="1887590"/>
      </c:barChart>
      <c:catAx>
        <c:axId val="549598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7590"/>
        <c:crosses val="autoZero"/>
        <c:auto val="1"/>
        <c:lblAlgn val="ctr"/>
        <c:lblOffset val="100"/>
        <c:noMultiLvlLbl val="0"/>
      </c:catAx>
      <c:valAx>
        <c:axId val="18875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598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3986-5F3E-4CBD-AE1D-97C22914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9EA-0641-498F-9B60-4FCE2F9F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D6F8-DF3E-42C0-B38F-A8EDFC1B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174-35E7-4A40-9D97-EA19DE56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AEF1-13D2-417E-B3EC-E41BB3AA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7474-56BE-4F8A-89EC-662E3E71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EF66-04B7-410B-B807-2507A62F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681C-A979-496E-9841-85CC4F16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16C-A603-48BF-859E-84F02155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A0C-DC05-4290-93BA-7AA56CEC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EB64-2491-4CB5-9362-6CE392DA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C84-9517-47CD-BC96-8AAAC824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B13F6-62F0-46C2-88C9-4892562B23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