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56989"/>
        <c:axId val="85314021"/>
      </c:barChart>
      <c:catAx>
        <c:axId val="512569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14021"/>
        <c:crosses val="autoZero"/>
        <c:auto val="1"/>
        <c:lblAlgn val="ctr"/>
        <c:lblOffset val="100"/>
        <c:noMultiLvlLbl val="0"/>
      </c:catAx>
      <c:valAx>
        <c:axId val="85314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569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112-BF8A-484B-AC50-D6489477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1634-AEE7-4202-84BB-2BD0A826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F3C-6D65-4F48-944C-CA5EBE3D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2BE4-2043-46CC-A01C-B115DA58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2142-9F69-44B9-8A34-D74678A9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1EE-473B-4975-AC25-EA2728E9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A9B7-0E3E-4952-8DE7-AD8C654B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6CCC-43E7-4513-BF79-9F36F262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B4B3-02EE-43DA-8D09-15BDF3A6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DC01-A9C0-48BA-9C93-9A35F205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FA08-F2CF-49B5-AED8-FF85C42A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9AC9-5F08-4452-834F-753BF55E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53E27-F9F9-4374-B8AF-64739840E9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