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550266"/>
        <c:axId val="2870751"/>
      </c:barChart>
      <c:catAx>
        <c:axId val="12550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0751"/>
        <c:crosses val="autoZero"/>
        <c:auto val="1"/>
        <c:lblAlgn val="ctr"/>
        <c:lblOffset val="100"/>
        <c:noMultiLvlLbl val="0"/>
      </c:catAx>
      <c:valAx>
        <c:axId val="28707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50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3FEC-A8B0-4A22-915E-92F8852A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95E4-5ACF-47B2-9E83-D22224B5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4D1-95D4-40A7-A547-36546566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840-AA44-4305-AE9B-8F1F66A4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6C49-8A8A-4DF5-B78C-A170DD8E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191F-56AA-475B-8DD8-5163B42A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815A-D5FE-4E09-BC93-1754A322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1CE-D851-4524-AD88-589A8CCF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83BC-7951-4C33-B90C-9ED857B4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486A-AEF6-4DB7-892B-1C568042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9704-FA1E-4A71-824A-66659FB1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3D3-2FE9-4B84-AAF3-AB51D086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3AFC4-269C-4D90-B110-CE1A37871A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