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4864296"/>
        <c:axId val="97233322"/>
      </c:barChart>
      <c:catAx>
        <c:axId val="5486429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233322"/>
        <c:crosses val="autoZero"/>
        <c:auto val="1"/>
        <c:lblAlgn val="ctr"/>
        <c:lblOffset val="100"/>
        <c:noMultiLvlLbl val="0"/>
      </c:catAx>
      <c:valAx>
        <c:axId val="9723332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86429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643C6-0673-4F50-B8B7-4F064E944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EFA30-5FB3-47A2-919C-E20B0AC24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3F5FC-8413-4313-B8A4-666F6D3CA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96E0D-745C-4FD8-AA3B-8D120C429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CF89F-9106-4F34-BBF2-9B40054CA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7A93D-2858-4A51-B2BA-96653EF48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7A7BE-3299-4458-939E-65D95164F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B8C7C-9422-4D44-8BF1-B7030776E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7CB5A-2774-4C9B-A19A-40CF67BA4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64655-1634-474B-BFE5-ADF1D52F6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46F65-6FA1-43F4-AA6A-A308DF069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AA077-9E9A-412C-8422-A0F68889A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7C2957-EE20-4B7C-8893-805685F1FE8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