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99639"/>
        <c:axId val="71770758"/>
      </c:barChart>
      <c:catAx>
        <c:axId val="42299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70758"/>
        <c:crosses val="autoZero"/>
        <c:auto val="1"/>
        <c:lblAlgn val="ctr"/>
        <c:lblOffset val="100"/>
        <c:noMultiLvlLbl val="0"/>
      </c:catAx>
      <c:valAx>
        <c:axId val="71770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99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2AE-A5C5-4DC5-9D44-4F405872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A52-4D3B-482A-B324-982623E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A96-EFB6-427E-9CF4-4C6C51D4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8AC-BCEB-407B-B6E0-372FB2D0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86F-9F3F-48E3-BC30-6E204EE0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408-4CD0-4779-8E1A-BBF769EE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F80-7ACA-4E91-A6A6-AB9444D8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50B-ED89-4928-8244-29E511E2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CA2-5820-4C1A-9102-52389315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379-0D99-4049-A52D-4FB6169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1C2-AE0C-4621-8E56-3B1ECCC9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F26-1A1E-4562-A576-D8C73AA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664E9-01AF-4CA1-BD2F-0AEE8B8BFF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