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8247554"/>
        <c:axId val="9906660"/>
      </c:barChart>
      <c:catAx>
        <c:axId val="9824755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06660"/>
        <c:crosses val="autoZero"/>
        <c:auto val="1"/>
        <c:lblAlgn val="ctr"/>
        <c:lblOffset val="100"/>
        <c:noMultiLvlLbl val="0"/>
      </c:catAx>
      <c:valAx>
        <c:axId val="990666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24755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505BC-A125-4F6E-953C-E580EFC38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953C4-D1F4-4D01-B6FC-167F1CA23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8A3A7-1297-420E-AE1A-2D67E17DC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DBA34-0B90-4137-9E3E-517EE1CBA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4E6BE-7F76-46FB-996A-8CECA2627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6115C-FFB7-4E98-B0D0-C6BDE7FBA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22BCD-87BA-42D6-9BCC-424330E94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7CD88-5E5F-4216-90DA-35545847C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3A480-770A-440D-83CC-02A08EDF3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89E02-8515-483B-A24C-4BEAECF9E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C81B5-792D-495E-8645-96E9B7E7A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8A7AC-8F42-4DD0-A46A-95ED8FC21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DF86A8-B2FF-4F96-9447-A87D0276FD8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