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26991"/>
        <c:axId val="96489549"/>
      </c:barChart>
      <c:catAx>
        <c:axId val="22526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89549"/>
        <c:crosses val="autoZero"/>
        <c:auto val="1"/>
        <c:lblAlgn val="ctr"/>
        <c:lblOffset val="100"/>
        <c:noMultiLvlLbl val="0"/>
      </c:catAx>
      <c:valAx>
        <c:axId val="96489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26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183-5C04-42E7-9413-6478E5F5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7F7-ABDB-4916-95EC-DC3348FC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F61-D6D4-4FFF-A05D-6FD01065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A9C-EE06-4391-BF0E-C56B1CBF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5AE-7040-42ED-938E-B1C31F09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A3D-D0B7-4DC9-B56D-E974FB93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2EA-CE16-4A9D-B237-3D084457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01B-92EC-49F1-B4E3-E4C181BB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4C8-BBFB-48EA-98C4-6E50BFD3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DE6-C5CF-4638-A830-1C1A4696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FD7-8CC7-4F22-A08D-ACE15198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4A7-2BEE-4FE3-8DE8-65D00B7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28764-1874-4863-B83F-D815EB5009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