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0344"/>
        <c:axId val="93032538"/>
      </c:barChart>
      <c:catAx>
        <c:axId val="8570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32538"/>
        <c:crosses val="autoZero"/>
        <c:auto val="1"/>
        <c:lblAlgn val="ctr"/>
        <c:lblOffset val="100"/>
        <c:noMultiLvlLbl val="0"/>
      </c:catAx>
      <c:valAx>
        <c:axId val="93032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0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CD3-C69C-40B7-916B-FBC0C3D0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E81-0337-4F50-B330-A0B05FFC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AC0-74CB-482B-ACBA-91976FDF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287-F2BC-4FB5-91A7-9D894B6D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A661-C3F5-49B3-B606-F3DE0AAD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0AE-EB6D-4D73-8B0F-74A5D8AD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4E9-C063-4261-B05D-94BF5A2F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DFA-E698-4F52-816D-189FBBFF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571-E002-4FB4-9E3E-CC533036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B70-DBA4-47C1-892B-49BFCFF9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4FB-8DA3-4788-9137-7ED273CD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E64-DAD2-466B-B65B-5D349013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F404C-4B75-41FF-8E3A-A53C92F888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