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86673"/>
        <c:axId val="31866359"/>
      </c:barChart>
      <c:catAx>
        <c:axId val="23386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66359"/>
        <c:crosses val="autoZero"/>
        <c:auto val="1"/>
        <c:lblAlgn val="ctr"/>
        <c:lblOffset val="100"/>
        <c:noMultiLvlLbl val="0"/>
      </c:catAx>
      <c:valAx>
        <c:axId val="31866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6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69A-4FD5-4C5D-B429-7B4F7B40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919-DE9D-494D-9082-B39899C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7A9-7C86-4F7E-B31B-7BFF8664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B60-D309-42E4-8B5D-2B58D1B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ADE-7BEF-450F-B208-83219A4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7EE-98AE-4907-BAE6-5A26429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8EF-9047-4DD9-A96D-7867D95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842-61DB-474D-9E88-5020181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BC1-2D16-4F72-B229-86BFC06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F45-155C-4C05-A9BD-7A1E24D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6AE-3EC3-4AD8-980D-5DD27F8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0B5-14FF-4B98-9883-7F7820F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79507-483D-44BC-8150-2BF99C704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