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524756"/>
        <c:axId val="93727434"/>
      </c:barChart>
      <c:catAx>
        <c:axId val="675247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727434"/>
        <c:crosses val="autoZero"/>
        <c:auto val="1"/>
        <c:lblAlgn val="ctr"/>
        <c:lblOffset val="100"/>
        <c:noMultiLvlLbl val="0"/>
      </c:catAx>
      <c:valAx>
        <c:axId val="937274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5247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2E85-5429-49F1-A4BD-0DD013AB0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10C7-0000-408E-B423-FBC409D5D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8C55-69F2-4839-95A2-D9E8BF5CF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145A-A548-41E0-B078-07A5CED2C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187D-2E9D-4036-B37D-C288E942F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A143-2983-4DE4-BEBE-5EDEEC799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2A02-DD1F-4658-9464-60B92CF19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F792-2CF6-499D-B45E-78DA4A23B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16CE-B056-4A13-9422-987FE0F70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7BE0-2983-488F-8B5E-D329143A2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8733-EBB9-40E1-9C3E-3A0FBF1D9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215E-DC81-4A9E-8A65-130944DDA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1FDE18-D8D1-4D78-ACBC-DECBE844708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