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54828"/>
        <c:axId val="76900361"/>
      </c:barChart>
      <c:catAx>
        <c:axId val="686548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00361"/>
        <c:crosses val="autoZero"/>
        <c:auto val="1"/>
        <c:lblAlgn val="ctr"/>
        <c:lblOffset val="100"/>
        <c:noMultiLvlLbl val="0"/>
      </c:catAx>
      <c:valAx>
        <c:axId val="76900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548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067-2FF1-4C7C-BD2F-FC40CA8B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B1F0-400C-47F0-A87F-0A411E28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95C1-7738-4169-8A10-74336674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41D-1763-4FD2-ACAB-3B667D76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344-BE55-442E-B5E0-746FBE0E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9FA0-A03E-48B8-A1B5-F43D9FA7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290-9BD9-4668-B962-F264818A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A1D9-3C40-46DF-8E93-08EB3247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FFFA-7173-48F4-BA4F-190B346A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E66-851D-4866-A858-16CEC1E3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798-50A7-4678-9799-5A43DC3F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754-8075-4FB8-8674-5200480A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14C44-C402-4D39-B76D-C721E4234F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