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23736"/>
        <c:axId val="58770002"/>
      </c:barChart>
      <c:catAx>
        <c:axId val="11723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70002"/>
        <c:crosses val="autoZero"/>
        <c:auto val="1"/>
        <c:lblAlgn val="ctr"/>
        <c:lblOffset val="100"/>
        <c:noMultiLvlLbl val="0"/>
      </c:catAx>
      <c:valAx>
        <c:axId val="58770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23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5B2-A258-4311-9512-C11D6487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7BA-B3D5-4602-97A3-A8FDAE87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76B-2606-4D68-8C76-2AB9668D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74A-4AD6-40A3-A558-CF84AEFA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BA1-6837-4319-9752-C05AB56C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C5B-809A-44C0-8C5C-70E3D351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208-027D-46D1-8728-67CBF456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5E8-18FB-4DE3-8654-EC73B745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1A4D-F1D2-4178-B8D9-ED57365E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6AD-DBEA-4F13-8CE9-EFEA70DF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819-F1B8-4D89-9D77-60C2D2E2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E8F-22D4-4D6E-914D-4CB25992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4704F-D91F-4D5C-ABDA-9C269BF943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