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276984"/>
        <c:axId val="80567940"/>
      </c:barChart>
      <c:catAx>
        <c:axId val="522769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567940"/>
        <c:crosses val="autoZero"/>
        <c:auto val="1"/>
        <c:lblAlgn val="ctr"/>
        <c:lblOffset val="100"/>
        <c:noMultiLvlLbl val="0"/>
      </c:catAx>
      <c:valAx>
        <c:axId val="805679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2769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C9A2-AB1F-4F25-9855-901357B78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CE21-4BB1-47F3-A5C8-692E324E1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1BA4-661A-417B-AF7D-A36872FF6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5BB1-8304-4DEB-BB33-7DA15E477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47BA-5317-4741-99CA-FF82F44CF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4F25-235C-4E7E-B514-2EF54E71D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649F-E7F7-4410-AF6C-32AFA8719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CBC2-79DA-4C63-B747-C17685C49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ACB8-1D15-426C-A4A6-73395C54D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CB0C-508A-444A-8EEF-A10507F1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E9A9-4393-4D94-9EF0-F336F151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9507-8D26-4CD1-B55F-9DF92F71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CFEC3D-0678-469E-B795-486E86739B4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