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652607"/>
        <c:axId val="62915497"/>
      </c:barChart>
      <c:catAx>
        <c:axId val="536526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15497"/>
        <c:crosses val="autoZero"/>
        <c:auto val="1"/>
        <c:lblAlgn val="ctr"/>
        <c:lblOffset val="100"/>
        <c:noMultiLvlLbl val="0"/>
      </c:catAx>
      <c:valAx>
        <c:axId val="629154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526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8854-F051-4A64-8EC2-B7D7497F2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B657-B31F-4F93-9FF5-E169E7E8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6A00-0F13-48A9-B02F-F8869CBB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6390-086D-4BD4-8E82-7E7185AFB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2101-1169-41B0-A9F5-80359153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0DBB-FB2B-407F-A575-BAD739D0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F144-2C44-4D1D-B22E-F8FF1085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B487-70B1-48D9-A0ED-D063A3CC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E91E-699A-40D6-9E7F-C86DDE81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94C3-9BE6-4135-91E8-6BA67A74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0D61-834B-4AB8-9DA6-101D55E0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7B05-20BE-4C57-AE8A-3CA74F04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32801-065B-46CB-9248-E708E77951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