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35543"/>
        <c:axId val="35547138"/>
      </c:barChart>
      <c:catAx>
        <c:axId val="43535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7138"/>
        <c:crosses val="autoZero"/>
        <c:auto val="1"/>
        <c:lblAlgn val="ctr"/>
        <c:lblOffset val="100"/>
        <c:noMultiLvlLbl val="0"/>
      </c:catAx>
      <c:valAx>
        <c:axId val="35547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35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E1E-DF59-494B-848D-6027BA94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943-F276-4903-AE91-F9D52F98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EC4-D417-4CB2-924A-F12FFF28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169-5F6B-48B5-89E0-4D4A6CCF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AE1-BFF2-4928-BD35-042BD932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F2C-E193-4C00-A75D-45206D86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406-E8C6-481C-8607-B18707B9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BDC-D211-4D8E-B39D-1445D6B2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D15-7E58-42B8-814F-2037F77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3C3-1D89-4F67-8152-473D9C2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826-B181-46BC-8F73-054595A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441-BC2B-4A06-ABC7-4F63AAB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58883-C231-4571-9A20-3EEB173DD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