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0594"/>
        <c:axId val="10688184"/>
      </c:barChart>
      <c:catAx>
        <c:axId val="2796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88184"/>
        <c:crosses val="autoZero"/>
        <c:auto val="1"/>
        <c:lblAlgn val="ctr"/>
        <c:lblOffset val="100"/>
        <c:noMultiLvlLbl val="0"/>
      </c:catAx>
      <c:valAx>
        <c:axId val="10688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F4D-6B14-434F-B893-A6F3EC12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689-2D1C-4D99-9E8A-A11242A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843-CA0F-45C7-8EA8-7BE77F86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010-ABFE-439E-A42F-AFF6138B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85D-A201-4B58-BE08-10F547D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768-6327-442E-872E-87057955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7BB-3170-48FA-818F-D12C2FAA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69A-0EA0-4C35-8AE2-B09466C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42D-5C9C-4616-ACA7-0B257DBA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6EB-9368-4A2D-B158-00DEF36B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D48-5FD7-40A4-A938-21D0398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461-34AB-4C11-B01F-E2E953B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B9D13-52FD-43F8-82A7-B33487748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