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53676"/>
        <c:axId val="4799112"/>
      </c:barChart>
      <c:catAx>
        <c:axId val="4353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9112"/>
        <c:crosses val="autoZero"/>
        <c:auto val="1"/>
        <c:lblAlgn val="ctr"/>
        <c:lblOffset val="100"/>
        <c:noMultiLvlLbl val="0"/>
      </c:catAx>
      <c:valAx>
        <c:axId val="4799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53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398-C1E2-4639-BA5C-B0E2527D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D417-376D-4BB1-8ACD-0EB41344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F6FC-115D-47EB-85CD-A7B21722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C76-F17E-4559-8EEB-CE440375F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2377-8369-41E6-8817-FCEC1691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F27-F639-43DE-BDA2-3215966F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C90-D719-459A-B67A-F94F72F8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AC6-0D3D-477B-951E-3BA000E0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0A9-CEF6-4D23-8334-1082FC2E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3A6-9955-4C40-AF41-8658FA01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6469-BFED-408C-83E0-AD1BF5D74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8FF-06E8-4216-A974-EC322C38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0FA4E-09D0-40B2-80FF-EF46193C022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