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4245"/>
        <c:axId val="71080196"/>
      </c:barChart>
      <c:catAx>
        <c:axId val="7344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80196"/>
        <c:crosses val="autoZero"/>
        <c:auto val="1"/>
        <c:lblAlgn val="ctr"/>
        <c:lblOffset val="100"/>
        <c:noMultiLvlLbl val="0"/>
      </c:catAx>
      <c:valAx>
        <c:axId val="71080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4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105-F4C6-4645-B7B9-F12FDC30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3F9-AD32-4731-835A-DA0DF536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4E8-39F1-485E-9CCA-7E6BFA55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21D-6B66-42C5-BE11-5757ED66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719-41AE-4DFE-9C9F-2E270C78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A49-71E2-41E1-9122-238FB322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F99F-F023-49DF-B44C-4104B509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7BC-8FAA-46A2-AC46-7F00E5A6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0AE-99F9-42CA-AAD9-63F7AFE7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E4E-50EA-4C51-AD0F-FF36439D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CAF-2D88-4E68-9158-6DE134F7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8B6-68BF-48CC-8B3B-FABE211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01FF6-E9AC-49C2-8B72-ACB3F0CB3E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