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03595"/>
        <c:axId val="76603653"/>
      </c:barChart>
      <c:catAx>
        <c:axId val="66803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03653"/>
        <c:crosses val="autoZero"/>
        <c:auto val="1"/>
        <c:lblAlgn val="ctr"/>
        <c:lblOffset val="100"/>
        <c:noMultiLvlLbl val="0"/>
      </c:catAx>
      <c:valAx>
        <c:axId val="76603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03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E517-D191-4BCD-BB05-30BE4616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B0B-EFC4-4D9B-B7C2-0392EA4A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5DD-E5AC-491E-81F7-B6C4C8AF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104-8BE7-44A5-B619-24567D91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EB7-DA5C-4220-8186-4AA842F2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F76-A9FF-402B-9E0B-D187814B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340-628E-494F-A2F4-B98DDC01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831-20CE-4F4A-BF94-172BBBE1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916-80D8-415E-A5F8-037FAAE2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699-A664-457B-8490-3753C0C0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083-D2C3-4D3D-9B0E-7456D307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2278-00E2-4E8F-9C4E-EA414C86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BCA3E-9B33-40B7-B18A-FE0365D18E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