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948492"/>
        <c:axId val="54879304"/>
      </c:barChart>
      <c:catAx>
        <c:axId val="569484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879304"/>
        <c:crosses val="autoZero"/>
        <c:auto val="1"/>
        <c:lblAlgn val="ctr"/>
        <c:lblOffset val="100"/>
        <c:noMultiLvlLbl val="0"/>
      </c:catAx>
      <c:valAx>
        <c:axId val="548793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9484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37CE-14AF-4958-B089-E0EE0C619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15EB-8FE1-4968-AE3B-EEB6E59A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990D-A4A1-4645-B0B3-448C306D4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0540-D70C-482C-A222-73E341545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3F18-E079-4259-BE32-A7BF8650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54BC-2A60-4E7F-97C2-DF3891E8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642E-FD66-4FE3-AA6B-DC0FC543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EDA5-EDD3-45A7-B16E-24BFAB15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9A79-A387-469B-9CAB-A606483D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786F-2651-4574-9F0B-473E0062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8E48-7EF3-4820-9343-922EDA85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027D-C79A-4276-B1CF-46D13928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621F2B-C6EF-4420-A061-E035ACC1E0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