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10238"/>
        <c:axId val="20149591"/>
      </c:barChart>
      <c:catAx>
        <c:axId val="14410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49591"/>
        <c:crosses val="autoZero"/>
        <c:auto val="1"/>
        <c:lblAlgn val="ctr"/>
        <c:lblOffset val="100"/>
        <c:noMultiLvlLbl val="0"/>
      </c:catAx>
      <c:valAx>
        <c:axId val="20149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10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1E3-E052-4E71-ACA8-04B04E61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697-1EE5-46A2-8843-1D9CECBB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D60-7A97-4936-8770-ACAB4049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64B-3BC5-435D-9520-62CCFED4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FC8-33AF-491D-ADE9-B2AED2A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DA6-47BD-4D18-A627-5DFDE5E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A70-C664-4589-821D-79F5EA89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258-6BBC-43B6-A16B-77B68290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C07-048C-4529-9CE0-B1856FE2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59C-EAB5-42F9-985E-12AB8831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3EB-7E20-46EA-9414-E5531F0D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36D-27B9-461E-AD30-17B92A95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2ED56-CFC2-4EC3-901A-53075CC89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