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0849"/>
        <c:axId val="48602559"/>
      </c:barChart>
      <c:catAx>
        <c:axId val="2200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2559"/>
        <c:crosses val="autoZero"/>
        <c:auto val="1"/>
        <c:lblAlgn val="ctr"/>
        <c:lblOffset val="100"/>
        <c:noMultiLvlLbl val="0"/>
      </c:catAx>
      <c:valAx>
        <c:axId val="48602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263-6AEC-467B-B60F-26B07728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20B-9F17-4B8B-841D-61DFFD2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7E2-13E7-4394-A39E-9463628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A19-B4C5-4704-A65F-D32406F2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64C-34B2-4045-B45C-1068357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B47-6388-4914-9842-168E274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066-8188-417F-81A3-84DEA974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F01-8FCE-424D-BAE1-14E8C11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06B-F77C-4C47-8A59-0AB7BB4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1FA-88EE-4FB2-8D99-D154901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A0A-B9DB-4DD4-9CEA-8CA5761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177-1D45-4C93-A8CA-A0CC130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E21F3-567F-4630-9C05-F376A67E2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