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44154"/>
        <c:axId val="75858521"/>
      </c:barChart>
      <c:catAx>
        <c:axId val="84544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58521"/>
        <c:crosses val="autoZero"/>
        <c:auto val="1"/>
        <c:lblAlgn val="ctr"/>
        <c:lblOffset val="100"/>
        <c:noMultiLvlLbl val="0"/>
      </c:catAx>
      <c:valAx>
        <c:axId val="75858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44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E33-A4AD-47B7-9249-72B02739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45A-07B7-401A-B3BD-EFF7B389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BFE-6C01-4FC5-8B35-A342F47C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A76-CFBC-4F76-9326-CC2A8696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64A-AD2D-4584-9A7B-2F3D974D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1F6-50B4-4D5F-A906-A4B70AFB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95F-17E6-476D-BC4A-8C908B96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D97-08BC-473A-B0DF-F2CBF05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297-4FDB-447A-97FE-28D65ABE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235-0D4E-459B-87DC-38F5784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074-B2BF-41DC-917D-D69C4768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522-582E-4D67-A4D8-8843D369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AB1C9-D31D-4212-801B-7041BC1087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