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365373"/>
        <c:axId val="17027677"/>
      </c:barChart>
      <c:catAx>
        <c:axId val="95365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27677"/>
        <c:crosses val="autoZero"/>
        <c:auto val="1"/>
        <c:lblAlgn val="ctr"/>
        <c:lblOffset val="100"/>
        <c:noMultiLvlLbl val="0"/>
      </c:catAx>
      <c:valAx>
        <c:axId val="170276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65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D175-300C-4CFD-A18F-709073DD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8ECF-663F-4421-8B67-79649E53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4D33-87A3-44A6-8F63-0E9F3403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484A-0BF3-430D-A7BB-047DB0A3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C636-C093-4296-8C52-CE03B74A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A4FF-DBDC-445C-9EB5-0F1A7C20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2625-BB80-4CB0-8603-E5834A18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D098-2AB3-4562-9E67-F7FAAF4B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92E8-9707-463E-9778-18CABF1F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0972-61EF-4348-B4CA-1319EE40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CEAC-3F96-4F61-B919-2972582B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D5FC-C185-4F12-87F6-2392F347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0EAC3-0B2E-4669-82A4-4AC1086E0A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