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09634"/>
        <c:axId val="90923293"/>
      </c:barChart>
      <c:catAx>
        <c:axId val="80409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3293"/>
        <c:crosses val="autoZero"/>
        <c:auto val="1"/>
        <c:lblAlgn val="ctr"/>
        <c:lblOffset val="100"/>
        <c:noMultiLvlLbl val="0"/>
      </c:catAx>
      <c:valAx>
        <c:axId val="9092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09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858-526D-47DA-853B-51C98787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882-AA44-45E9-8E2F-8AB5568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7E1-67E2-46E4-8D45-C16C37CA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45A-76CF-4F22-980B-EABA7938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FE1-6779-4FB2-AF65-04FBE31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80F-4512-4072-8133-5AB42C2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6EC-2F2E-4D47-A64E-C9041A9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268-8364-4EFF-BAB3-1A6C387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18D-2F1D-42E2-A162-A4B3DA9E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DB9-555C-464E-B2FF-4F9984D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CA8-BB0D-453B-B3CF-48768B4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52F-8C1B-484B-8DAD-46558A5A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F065B-17D2-4951-84BC-E5A15C7F8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