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87090"/>
        <c:axId val="81090369"/>
      </c:barChart>
      <c:catAx>
        <c:axId val="66987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90369"/>
        <c:crosses val="autoZero"/>
        <c:auto val="1"/>
        <c:lblAlgn val="ctr"/>
        <c:lblOffset val="100"/>
        <c:noMultiLvlLbl val="0"/>
      </c:catAx>
      <c:valAx>
        <c:axId val="81090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87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63F-9CF5-443C-912D-DE6E166B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7FE-AC92-45CD-BD3D-574E4F8A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3DB-47DE-435A-B1CF-A0FF580B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F09-6632-4DBF-98E4-AEFC5C7C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305-4C8B-4C81-ACF2-D90B9445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27D-63E8-4804-B5B8-4895F265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29E-986A-4E5B-8E99-1B58556B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CE0-CC80-4C06-92C9-9DF09BBC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9BF-6724-47B5-B36E-1844ECDA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04CB-8573-45CA-885A-1A7991D8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A2A-83E3-4C74-9739-1B38878E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94D-59C8-4D66-8B84-523AC4A3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6F044-E50F-4478-91FA-164F5C464D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