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54100"/>
        <c:axId val="99789872"/>
      </c:barChart>
      <c:catAx>
        <c:axId val="91154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89872"/>
        <c:crosses val="autoZero"/>
        <c:auto val="1"/>
        <c:lblAlgn val="ctr"/>
        <c:lblOffset val="100"/>
        <c:noMultiLvlLbl val="0"/>
      </c:catAx>
      <c:valAx>
        <c:axId val="99789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54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837-B395-48A7-82AB-4D785023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4D4-A9EE-433C-97E0-1F6F56F4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D4E-A5FA-4BA4-ADB7-CA6E82B3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9CD3-6944-4779-8623-F8FC283D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75F-B7EA-4576-A2B9-7FFF86FA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978-73BB-4DB3-A0D8-CBA3FED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A99-DCA9-46FA-AAB4-94935686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B3F5-1391-4938-9BA0-4BABB7E9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E38-D2AA-4853-BF67-4BB88190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688C-9978-4452-AD0A-3716347F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B1C-DF87-49C4-9986-7852B068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20A-44B8-45EE-BE84-133A277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97416-EE65-4045-B3BA-76493CF7BF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