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831248"/>
        <c:axId val="7242372"/>
      </c:barChart>
      <c:catAx>
        <c:axId val="608312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42372"/>
        <c:crosses val="autoZero"/>
        <c:auto val="1"/>
        <c:lblAlgn val="ctr"/>
        <c:lblOffset val="100"/>
        <c:noMultiLvlLbl val="0"/>
      </c:catAx>
      <c:valAx>
        <c:axId val="72423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8312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A396-4BDF-497F-9AB9-33C3048E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06FA-7D67-451B-B6F6-DE123E18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927B-09EE-44BC-845B-258E6DF0E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ABE1-9390-4577-A4B7-9F97432F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77A3-2D21-4736-A49A-027BB94F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C827-ED60-41C1-BE60-9C3E4D80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A72E-B044-4F7F-8CC5-30793195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7095-D55A-4289-96D9-A7337E42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8BBB-642D-4E1E-AD99-D6AD5A9A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5268-31D6-4B25-9065-08F517A0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8542-C959-4F49-B6C7-4F00F005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060D-F86E-4408-B7E7-50187173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1849A-7825-4C7E-8490-B175B0CB0F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