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572746"/>
        <c:axId val="52293021"/>
      </c:barChart>
      <c:catAx>
        <c:axId val="995727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93021"/>
        <c:crosses val="autoZero"/>
        <c:auto val="1"/>
        <c:lblAlgn val="ctr"/>
        <c:lblOffset val="100"/>
        <c:noMultiLvlLbl val="0"/>
      </c:catAx>
      <c:valAx>
        <c:axId val="522930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727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EB51-C09C-45F4-9573-6F9CDA4B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2AAB-F5EE-447D-B511-2A4E2BA8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2C37-2B58-4FB4-AB46-DF81958C9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0E75-CDE3-4465-8810-21E08F68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B7D9-278C-4C97-9C3C-B90ECB52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28DF-BF99-45CB-BF7E-4570485D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1F4C-92D8-4811-AF69-6B77D821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226C-829A-4AC8-8974-579B7B40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2B20-8A24-449C-A136-644E92E9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7A35-9FF4-4372-BB6D-2A294C04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1FCD-C04E-4C3A-9E74-31480B88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2441-F63E-4A7F-8C20-6CF1A0E4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9D32E-A065-4D0C-8FF6-E231B05D77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