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808226"/>
        <c:axId val="21307343"/>
      </c:barChart>
      <c:catAx>
        <c:axId val="658082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07343"/>
        <c:crosses val="autoZero"/>
        <c:auto val="1"/>
        <c:lblAlgn val="ctr"/>
        <c:lblOffset val="100"/>
        <c:noMultiLvlLbl val="0"/>
      </c:catAx>
      <c:valAx>
        <c:axId val="213073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8082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B5C4-DB1F-46D1-ABE7-782A008A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1907-3D68-4D7F-831B-74495AC6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3E47-594B-43D5-9DAA-1C4B64C36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5674-4C22-45FC-8ACC-3ED6209C0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DBBC-3273-4D23-BDDE-32F06AFB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16D2-9649-4D11-B297-5A054F1E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2E59-BDA4-4EFA-83D8-58E46ED5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3A7E-47A1-49A6-B5EB-1272C788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AB14-C13C-41CA-B57B-465971F9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E77B-E90B-4130-BA05-FD94A2C1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3871-714C-41C2-A7F3-B2F23C3A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528E-DFFF-4354-9D9E-4AF1507A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DCBF5-0E5C-426E-A4D2-5CA9738365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