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99190"/>
        <c:axId val="37908742"/>
      </c:barChart>
      <c:catAx>
        <c:axId val="34499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8742"/>
        <c:crosses val="autoZero"/>
        <c:auto val="1"/>
        <c:lblAlgn val="ctr"/>
        <c:lblOffset val="100"/>
        <c:noMultiLvlLbl val="0"/>
      </c:catAx>
      <c:valAx>
        <c:axId val="37908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99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97E-4BAF-4908-A0E2-26CE291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C84-0788-4428-AD78-1AA43C0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EE9-A6D0-47B3-90E6-ABA8AFE8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265-4100-455D-9A79-08E10F62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7A7-58D1-4256-B78F-F2BCC1C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DC3-5775-4B1D-924F-D67BC00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7E8-9BC2-4B9C-9DE0-787D441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0BE-A910-4165-B02F-5BBE2BFB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2D8-A0AB-4CD5-88CB-BD7A62CC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44C-8EDE-42CB-B7DC-11AADA9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011-92AF-4216-8270-AD5D068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7AA-9EAB-4B43-8C4C-C62B480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9943-F62E-4E07-A832-3D01ED2BE6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