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62935"/>
        <c:axId val="11629092"/>
      </c:barChart>
      <c:catAx>
        <c:axId val="983629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29092"/>
        <c:crosses val="autoZero"/>
        <c:auto val="1"/>
        <c:lblAlgn val="ctr"/>
        <c:lblOffset val="100"/>
        <c:noMultiLvlLbl val="0"/>
      </c:catAx>
      <c:valAx>
        <c:axId val="116290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629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B3A-6A33-41E0-8C30-08CC14BD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D67-BBCF-43CC-9D8F-1FAD633D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CEB-9967-4543-968B-A31FB665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2F8-854B-4021-A07E-E6E7374E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2C60-AF67-4ACC-9085-087C5A16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DDDC-0A89-4FFF-BB6D-57676E2A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145-032C-42D4-B502-EEDC8B20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301-AEFB-4C4F-A147-B3FDF83B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4C0-CD5E-4BF1-80D8-FF728CEF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4A33-D343-46F2-B7CA-F41F84D4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97CD-A3B6-474D-B2DB-D1BE1433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99CF-3696-4FAF-81E9-E346A824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02801-A5C5-4AFF-A2DF-5CD0158DF8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