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69528"/>
        <c:axId val="72818912"/>
      </c:barChart>
      <c:catAx>
        <c:axId val="52969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18912"/>
        <c:crosses val="autoZero"/>
        <c:auto val="1"/>
        <c:lblAlgn val="ctr"/>
        <c:lblOffset val="100"/>
        <c:noMultiLvlLbl val="0"/>
      </c:catAx>
      <c:valAx>
        <c:axId val="72818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69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30E-DDA3-4164-9580-664BBF6F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F0B-CC1D-4D6D-98A6-116DCC10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880-BCA6-4D2E-90CE-2854683F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830-8CBD-4B03-98ED-E7755048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311-DA47-4350-A71C-3E4F45BB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8F8-DB16-4619-A41B-63C43FA0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350-1A99-4AAD-8A92-1374B0FC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DB0-C103-40CE-B10C-494EEE0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190-7CFC-4F20-983E-FF0A4159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06B-920D-419D-879C-B20FC015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40A-C3C1-4A4A-BA84-81DC6B10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CD9-1DFF-4519-BD3A-FDA1EEB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C808E-34A7-4465-9578-B2C90FD981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