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301890"/>
        <c:axId val="73277948"/>
      </c:barChart>
      <c:catAx>
        <c:axId val="693018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77948"/>
        <c:crosses val="autoZero"/>
        <c:auto val="1"/>
        <c:lblAlgn val="ctr"/>
        <c:lblOffset val="100"/>
        <c:noMultiLvlLbl val="0"/>
      </c:catAx>
      <c:valAx>
        <c:axId val="732779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018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A10-4825-4003-82B3-C8E7F7D3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67F5-2D96-4C65-BD5B-5707A9AA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A53-69CB-4281-B0EC-876808A3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6A64-F659-4B0B-999A-AD6D3304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6C4-2902-4863-9B18-E45ECEA0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7198-53C5-4EB6-BA58-E9F055A8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8CC8-3EFD-4932-90C3-AD3A72E0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F833-2BF1-4484-A13D-F17222AB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F2EC-CB56-48AE-B9CC-8B0E03E4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7382-3C39-41AD-9E42-27F399AF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6391-34E6-4428-8531-D5794991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496D-DA45-47CD-BF8C-087E285F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994FB-64CB-4C24-8CAF-D904EE739D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