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49214"/>
        <c:axId val="25974943"/>
      </c:barChart>
      <c:catAx>
        <c:axId val="58849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74943"/>
        <c:crosses val="autoZero"/>
        <c:auto val="1"/>
        <c:lblAlgn val="ctr"/>
        <c:lblOffset val="100"/>
        <c:noMultiLvlLbl val="0"/>
      </c:catAx>
      <c:valAx>
        <c:axId val="25974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49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288-8726-4079-A2A3-73717D3C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FBE-F7FB-4C19-BF5C-C929EFAB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803-A466-4A7F-AFC9-E0B59795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E4D-D2BB-4F0F-9E32-8FCEE152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038-C1E5-42D9-83CD-03707CE8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BA4-F1B6-4A58-B7A6-56D4E8B0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6FFE-F29C-4A1C-8287-83C37460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37F-16F1-4A4D-B81A-DB10AAA5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527-66C9-4128-B2EC-B1468608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DEA-8B2E-4162-8CCD-0B0AD264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C10-E79E-46F6-B28E-065399F3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318-8A86-4947-B281-EC873C55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8E093-9653-4B60-9469-6C4C1BCF9D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