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21399"/>
        <c:axId val="15257502"/>
      </c:barChart>
      <c:catAx>
        <c:axId val="59621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57502"/>
        <c:crosses val="autoZero"/>
        <c:auto val="1"/>
        <c:lblAlgn val="ctr"/>
        <c:lblOffset val="100"/>
        <c:noMultiLvlLbl val="0"/>
      </c:catAx>
      <c:valAx>
        <c:axId val="15257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21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96CB-1D51-405B-89B5-38194D0B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819-57CF-4440-901E-070DEF15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A51-642B-4747-A106-42FA772A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6A9-10DE-4966-9FAF-4A1F1353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251-06DA-4599-AFC3-ACC5E386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1F8-3444-4613-AA3D-E17E3AE1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BD5-F3E7-499F-A6BB-3AC68544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521-1A83-4428-8B40-42C6BF77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980-09BC-4391-B102-CBD430F6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589-92F8-42FD-96B2-C991FB2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0DB-9D52-435D-BB6B-200E15FC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514-A9BA-434D-AC2E-F337E52D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F4049-A272-4B4C-BEB6-8CC3BCFDA4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