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26058"/>
        <c:axId val="56018397"/>
      </c:barChart>
      <c:catAx>
        <c:axId val="96926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18397"/>
        <c:crosses val="autoZero"/>
        <c:auto val="1"/>
        <c:lblAlgn val="ctr"/>
        <c:lblOffset val="100"/>
        <c:noMultiLvlLbl val="0"/>
      </c:catAx>
      <c:valAx>
        <c:axId val="56018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26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DFF-0E95-418D-A949-7E6C866E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217-7EF0-4FA8-B9B3-38889F0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2FB-5B88-46A4-AF83-F762173A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CE0-148E-4BEE-B4D6-DCAEFC32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61A-5A57-4F78-9CBF-28EB40D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D0B-3326-4707-9B0B-A4C58A1D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7C1-BA34-47F8-9236-5510D37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06B-4436-4DBC-99A0-D62C87C8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5EE-D1E7-4966-8E60-08D24F9B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B5E-762B-466C-B8CA-5294F70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C66-1F06-49F2-BFFD-7D1217A6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765-12F2-4A03-B243-4253E50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A775B-1466-4820-A376-64A8B10411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