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27113"/>
        <c:axId val="47783957"/>
      </c:barChart>
      <c:catAx>
        <c:axId val="73427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83957"/>
        <c:crosses val="autoZero"/>
        <c:auto val="1"/>
        <c:lblAlgn val="ctr"/>
        <c:lblOffset val="100"/>
        <c:noMultiLvlLbl val="0"/>
      </c:catAx>
      <c:valAx>
        <c:axId val="47783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7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389-52B6-4280-AD52-F415900B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8EB-4F11-49DF-9E52-1EDDEEB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70B-8CBA-4ADA-8335-259EC2D7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A00-034F-47A1-BE33-10CFDE8C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6BD-1445-41A7-95A6-1B28906B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B7E-7089-4FF1-A181-C706BA02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A5D-E9A2-4550-A350-DDF39B0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4CA-B875-4F11-A7C6-177837B9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DD6-AB7E-458B-98CA-07992AB1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362-7E45-46A3-BD36-F7C29E39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086-3A33-4882-9621-517D6B1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721-992F-42CA-83BF-FAB51D2B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FC0E9-4C71-409A-B317-F0ACF783EC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