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95536"/>
        <c:axId val="91696999"/>
      </c:barChart>
      <c:catAx>
        <c:axId val="50695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96999"/>
        <c:crosses val="autoZero"/>
        <c:auto val="1"/>
        <c:lblAlgn val="ctr"/>
        <c:lblOffset val="100"/>
        <c:noMultiLvlLbl val="0"/>
      </c:catAx>
      <c:valAx>
        <c:axId val="91696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95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DAD-FB42-44ED-90C2-C5FB36A0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C98-0036-4F7B-BDAF-1485CEE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432-39B5-407D-AF7A-3143E8EB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AAD-C9D3-4EA1-A99E-7F58CDAA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337-D896-465C-B8CA-647D30E6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A51-7B17-417B-A3DD-B081A46F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C32-F8AA-4373-BA52-0E1564F6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576-EB54-41F3-8C54-F4E3A006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446-FDC8-4201-8FEE-5C136D87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848-EBA7-42EE-B360-BF60B28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36A-A205-4613-8C0D-8109D471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E05-8410-4C24-8A55-C552E1F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1A484-F78B-4D1D-84C8-34DA49C41A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